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A07-A633-43D1-8A19-94DE32DE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5B6-23A6-4A4F-8AE5-3ED1F806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C40-8CE8-473E-BABB-71C8AA5D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FB8-43AB-44B9-8146-757EFEAE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9309-85CA-4E9F-938E-E2BA7018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E32A-78CD-4962-9D09-62246EAC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A512-557D-4627-A8AA-8999528B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4C09-191F-4C8C-AD58-1212D6DB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8DA2-66BC-40C1-9A74-52EC5C2B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C6A9-46F9-4A4B-AE67-80EBD711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CE71-A535-45E8-B176-567CF5E1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942-210A-4525-AAE2-D43B7C6D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A04B-5234-4D66-B31D-E925D587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ADB7-A167-49CD-B465-438C753E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77A5-B1D4-4608-99F9-E4733A77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2184-D381-4CD6-AC8D-5B88314D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749D-A4CF-414B-A901-1A796B3F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B87F-5182-447C-9B21-D1A66555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9CC-0453-4F30-A849-835FC89D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099-4CD1-4659-92F2-946F1A17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9BD-8423-4AB4-8CE3-32E69E5C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3B2-0ACD-425E-A44D-AC098A09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DB4-0CFC-4F4F-BDC8-C31269B7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727-6483-4516-AE79-1A887F8B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A9AB-7654-4524-9078-C10263928D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A083-1873-4EBB-8592-EF31C25BE3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ciocultural perspectives on learning (really = acquisition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ing (acquisition) is a gradual process of enculturation into communities of practice that use language in particular way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begin as a “peripheral participant” and gradually become a full member of the club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ficiency develops over time given an environment that is conducive to growth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arning vs. Acquisi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r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ciou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quires eff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nsmission mod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es meta-knowled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ormation is easily lo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quis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consciou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fortl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renticeship (transactional) mod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es practical compet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fects are long las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mission vs. Transa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ransmission mode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emphasis on direct teac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quential instr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imple to comple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ieces to who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Behaviorist model of learning (Skinne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ransactional mode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emphasis on learning or acquisi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maller parts seen as more readily learned within the context of a meaningful who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ociocultural model of learning (Vygotksy; Hallida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373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Correctness is valu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risk-taking is discouraged or penaliz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Mastery is expec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but rarely achieved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bility to reproduce or verbalize a pre-determined correct response is taken as evidence of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22860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isk-taking, and hence “errors” are seen as essential for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Learners are expected to develop at their own pace; no concept of “failure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bility to apply knowledge and to think in novel ways is evidence of learning - or to use general strategies across a wide range of tasks and contex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cquisition as a developmental pro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are general patterns of language development (and of language sub-components such as syntax; spelling; read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’s important to know where your students are at along these various continua in order to target instruction to their “zone of proximal development (“ZPD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this does not mean we should limit students’ exposure to the full range of language expressions; nor can we target instruction all the time to meet each individual’s ZP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hallenge becomes how to design instructional activities that are sufficiently open-ended and yet guided so that all students can leverage what they already know and yet continue to gr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arning as an active proces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ers make hypotheses about language rules as they move through developmental sta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y may “overgeneralize” along the w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foot, two foo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ight, sight, might, bigh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 it to she and I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a3b2c1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hus we can analyze students’ “errors” with an eye 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what they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know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/or 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rying to d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23:24:44Z</dcterms:created>
  <dc:creator>College of Education</dc:creator>
  <dc:description/>
  <dc:language>en-US</dc:language>
  <cp:lastModifiedBy>College of Education</cp:lastModifiedBy>
  <dcterms:modified xsi:type="dcterms:W3CDTF">2006-07-06T15:40:56Z</dcterms:modified>
  <cp:revision>3</cp:revision>
  <dc:subject/>
  <dc:title>Sociocultural perspectives on learning (really = acquisition)</dc:title>
</cp:coreProperties>
</file>